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April 22,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93680" y="1266840"/>
            <a:ext cx="7287840" cy="4450680"/>
            <a:chOff x="1093680" y="1266840"/>
            <a:chExt cx="7287840" cy="4450680"/>
          </a:xfrm>
        </p:grpSpPr>
        <p:sp>
          <p:nvSpPr>
            <p:cNvPr id="89" name=""/>
            <p:cNvSpPr/>
            <p:nvPr/>
          </p:nvSpPr>
          <p:spPr>
            <a:xfrm>
              <a:off x="1093680" y="1266840"/>
              <a:ext cx="7287840" cy="445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680" y="1266840"/>
              <a:ext cx="7211880" cy="44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68480" y="1442880"/>
            <a:ext cx="72691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18.03.05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18.03.04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15.12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ilestones are only SW related. S25 has been decl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Due to shift of Plover to SG2, milestones and budget planning need to be adap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Assignment and fixing of bugs gained speed, but still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otential delay of the PoC and I-mode implementation in CX70 and early X75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Due to the realization of Plover on SG2 the new Epson AAC chip will not b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ew video chip from Epson 758 in discussion to replace Epson 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st CR “Background audio playing” can not be integrated in Phoenix D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dditionaol resources for fixing estimated number of critical bugs have been as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98960"/>
            <a:ext cx="3762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5764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52260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8936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P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8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92400" y="1322280"/>
            <a:ext cx="705960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12.0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0.12.04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.03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9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.02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5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ajor thr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 aligned with Phase II produ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technical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6505560"/>
            <a:ext cx="36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Claus Dalmose COM MD PD PGG A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971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宋体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08000" y="1063800"/>
            <a:ext cx="7719840" cy="5408640"/>
            <a:chOff x="1008000" y="1063800"/>
            <a:chExt cx="7719840" cy="5408640"/>
          </a:xfrm>
        </p:grpSpPr>
        <p:sp>
          <p:nvSpPr>
            <p:cNvPr id="110" name=""/>
            <p:cNvSpPr/>
            <p:nvPr/>
          </p:nvSpPr>
          <p:spPr>
            <a:xfrm>
              <a:off x="1008000" y="1063800"/>
              <a:ext cx="7719840" cy="540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5240" y="1063800"/>
              <a:ext cx="7639560" cy="54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14480" y="1170000"/>
            <a:ext cx="756756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ilestones Phoenix / 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9.05.05 / 2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 SW Freeze   19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 bug-fixing rate not high enough to reach S3-maturity in time. Resources for approval not ensu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=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 resource situation escalated in PSR. – Resources have been made available,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but dedicated  nomination still op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2-SW does not fulfill LCM/Production requirements, - without change this will block S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irius side keys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urrently not testable, - solution for S25 available, improvement for S3 nee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isalignment of Phoenix-Joystick =&gt; Countermeasures under Evaluation, looks promi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d Free Soldering Process seems not to be stabl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&gt; SGold and Mozart improved in drop test significant. Results need to be check in B2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hoenix rear cover: conflict between requirements of mechanical quality and assembly in production, must be solved before ramp up start =&gt; Task force set up in Shangh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3C-Exemption certificate for device import to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" y="347328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840" y="374508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3933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117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20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23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26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29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040" y="35528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13160" y="1212840"/>
            <a:ext cx="4214880" cy="201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signment of missing SW resources for bug fixing help keep DS and volumes in June feasible, situation relaxed, but still cr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hoenix and Sirius declared S25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41120" y="368856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2480" y="352872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02840" y="374148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02840" y="3954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92640" y="2442960"/>
            <a:ext cx="110520" cy="115560"/>
            <a:chOff x="3392640" y="2442960"/>
            <a:chExt cx="110520" cy="115560"/>
          </a:xfrm>
        </p:grpSpPr>
        <p:sp>
          <p:nvSpPr>
            <p:cNvPr id="139" name=""/>
            <p:cNvSpPr/>
            <p:nvPr/>
          </p:nvSpPr>
          <p:spPr>
            <a:xfrm>
              <a:off x="3392640" y="25182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39800" y="2442960"/>
              <a:ext cx="63360" cy="1155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27360" y="1430280"/>
            <a:ext cx="111240" cy="115920"/>
            <a:chOff x="3627360" y="1430280"/>
            <a:chExt cx="111240" cy="115920"/>
          </a:xfrm>
        </p:grpSpPr>
        <p:sp>
          <p:nvSpPr>
            <p:cNvPr id="142" name=""/>
            <p:cNvSpPr/>
            <p:nvPr/>
          </p:nvSpPr>
          <p:spPr>
            <a:xfrm>
              <a:off x="3627360" y="15051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74880" y="14302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13320" y="1635120"/>
            <a:ext cx="110520" cy="115920"/>
            <a:chOff x="3613320" y="1635120"/>
            <a:chExt cx="110520" cy="115920"/>
          </a:xfrm>
        </p:grpSpPr>
        <p:sp>
          <p:nvSpPr>
            <p:cNvPr id="145" name=""/>
            <p:cNvSpPr/>
            <p:nvPr/>
          </p:nvSpPr>
          <p:spPr>
            <a:xfrm>
              <a:off x="3613320" y="17100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60480" y="16351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13320" y="1844640"/>
            <a:ext cx="110520" cy="115920"/>
            <a:chOff x="3613320" y="1844640"/>
            <a:chExt cx="110520" cy="115920"/>
          </a:xfrm>
        </p:grpSpPr>
        <p:sp>
          <p:nvSpPr>
            <p:cNvPr id="148" name=""/>
            <p:cNvSpPr/>
            <p:nvPr/>
          </p:nvSpPr>
          <p:spPr>
            <a:xfrm>
              <a:off x="3613320" y="191952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60480" y="184464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13320" y="2035080"/>
            <a:ext cx="110520" cy="115920"/>
            <a:chOff x="3613320" y="2035080"/>
            <a:chExt cx="110520" cy="115920"/>
          </a:xfrm>
        </p:grpSpPr>
        <p:sp>
          <p:nvSpPr>
            <p:cNvPr id="151" name=""/>
            <p:cNvSpPr/>
            <p:nvPr/>
          </p:nvSpPr>
          <p:spPr>
            <a:xfrm>
              <a:off x="3613320" y="210996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60480" y="203508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03600" y="2235240"/>
            <a:ext cx="111240" cy="115920"/>
            <a:chOff x="3603600" y="2235240"/>
            <a:chExt cx="111240" cy="115920"/>
          </a:xfrm>
        </p:grpSpPr>
        <p:sp>
          <p:nvSpPr>
            <p:cNvPr id="154" name=""/>
            <p:cNvSpPr/>
            <p:nvPr/>
          </p:nvSpPr>
          <p:spPr>
            <a:xfrm>
              <a:off x="3603600" y="23101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51120" y="22352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587760" y="2438280"/>
            <a:ext cx="111240" cy="115920"/>
            <a:chOff x="3587760" y="2438280"/>
            <a:chExt cx="111240" cy="115920"/>
          </a:xfrm>
        </p:grpSpPr>
        <p:sp>
          <p:nvSpPr>
            <p:cNvPr id="157" name=""/>
            <p:cNvSpPr/>
            <p:nvPr/>
          </p:nvSpPr>
          <p:spPr>
            <a:xfrm>
              <a:off x="3587760" y="25131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635280" y="24382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717640" y="5041800"/>
            <a:ext cx="7239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02280" y="5040360"/>
            <a:ext cx="3784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30320" y="1149480"/>
            <a:ext cx="7488000" cy="5218560"/>
            <a:chOff x="1030320" y="1149480"/>
            <a:chExt cx="7488000" cy="5218560"/>
          </a:xfrm>
        </p:grpSpPr>
        <p:sp>
          <p:nvSpPr>
            <p:cNvPr id="163" name=""/>
            <p:cNvSpPr/>
            <p:nvPr/>
          </p:nvSpPr>
          <p:spPr>
            <a:xfrm>
              <a:off x="1030320" y="1149480"/>
              <a:ext cx="7488000" cy="5218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6120" y="1149480"/>
              <a:ext cx="7409880" cy="52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030320" y="1273320"/>
            <a:ext cx="742140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16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31.03.05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 08.08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test cycle time is too high (a rough estimation i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5to 7 seco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above target), this requires implementation of an additional camera test tower and will have some impact on the B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veral problems popped up one day before B2 start (Vibrator and Lift part) the impact is unde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YD is the single supplier for major components LCD and FPC – quality risk in mas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veral unexpected issue happened last Thu. &amp; Fri. (Vibrator and Lift part) the impact is under ev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2+ tape out (originally not planned) in next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nal EMC solution available and will be implemented in B2+ devices (B2+ PCB with B2 hous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2 SW released on Apr.2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PAC variant is too late for S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tic-load test failed, the improvement is on 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T will be 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ototyp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test cycle time is quite high (see “Major threats”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2 SMT will start on 25.04.2005; assembly could start on 26.04.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920" y="320832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5800" y="3267000"/>
            <a:ext cx="19548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4360" y="3532320"/>
            <a:ext cx="195120" cy="207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4360" y="379872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57360" y="1189080"/>
            <a:ext cx="7400880" cy="525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High/Low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MMI-PCB not necessary, B1+ status can be reused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+ devices passed LEADFREE drop test with good results (with TWIGO+ BB ver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-IDB4 started with problems &gt;&gt; no S25-SW freeze on 22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tronics VGA camera supplier announced delay for B2 sample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B2 timeline confirmed, but NO buffer available anymore (weekly update by Flextronic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fixing rate may become not sufficient (too few resources, not enough experience in SW BEJ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additional budget &amp; resource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ing of ClearQuest is not properly (no resource/experience to assign new bugs to components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additional resources transferred to BEJ; improvements still not sufficient &gt;&gt; NO real status of open bugs and bug fixing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upper cases with EMI painting STILL not within spec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LUMBERG as integrated supplier installed QM directly at Greenpoint &gt;&gt; new samples in CW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S display broken during droptests; counter measures does not fix the problems (although Minos, Phoenix, Sirius are ok now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samples on 26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case breaks during drop tes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mould flow analysis checked, counter measures initiated &gt;&gt; new samples showed improved performance but still not sufficient, further improvements will be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20680" y="1220760"/>
            <a:ext cx="7326000" cy="4888440"/>
            <a:chOff x="1120680" y="1220760"/>
            <a:chExt cx="7326000" cy="4888440"/>
          </a:xfrm>
        </p:grpSpPr>
        <p:sp>
          <p:nvSpPr>
            <p:cNvPr id="180" name=""/>
            <p:cNvSpPr/>
            <p:nvPr/>
          </p:nvSpPr>
          <p:spPr>
            <a:xfrm>
              <a:off x="1120680" y="1220760"/>
              <a:ext cx="7326000" cy="488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75040" y="1220760"/>
              <a:ext cx="7249680" cy="48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266840" y="1293840"/>
            <a:ext cx="72691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04.03.05 -&gt;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3.03.05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15.09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16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24.03.05 -&gt;  14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02.11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01.03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21.04.05 -&gt;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19.05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06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01.04.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and S0 shifted due to change to 1.3MPix camera / TFT-display and additional necessary surface design modifications. M0 Declaration is also blocked by SAR value risk – red Q-Gate r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DS will be delayed to Jan 16, 2006, if Epson 758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S0 Declaration is currently blocked by introduction of new Epson 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M1 Declaration date is shifted to May 19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FT display and camera schedule are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placement of Epson 732 by 758 chip requires additional qualification time and effort; if first samples of Epson 758 are delayed, complete project will be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 to cost reasons it is necessary to replace the Epson 732 video chip by the Epson 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anges w.r.t.  Adonis: Liftpart PCB (Epson 758), display, camera, hinge flex, antenna, housing,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upport of Epson 758 based drivers for MPix-Camera and the TFT-display under cla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Some Resources will join in Siskin project for LCD and Camera develo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30400" y="1319040"/>
            <a:ext cx="7503480" cy="4720320"/>
            <a:chOff x="1130400" y="1319040"/>
            <a:chExt cx="7503480" cy="4720320"/>
          </a:xfrm>
        </p:grpSpPr>
        <p:sp>
          <p:nvSpPr>
            <p:cNvPr id="189" name=""/>
            <p:cNvSpPr/>
            <p:nvPr/>
          </p:nvSpPr>
          <p:spPr>
            <a:xfrm>
              <a:off x="1130400" y="1319040"/>
              <a:ext cx="7503480" cy="472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6200" y="1319040"/>
              <a:ext cx="7425360" cy="47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158840" y="1468440"/>
            <a:ext cx="743436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01.04.05 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26.09.05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14.02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26.04.05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24.11.05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28.02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03.06.05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10.01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28.03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=&gt; tb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milestones have to replanned due to shift of platform from SGL to SG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siness case is still negativ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-2.3 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per de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G2 Rel 2 schedule unclear – M0 status expected for beginning of June. DS needs to be shifted to 04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ew stack-up concept needs to be done, keeping SGL based PCB size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G2 Rel. 2 schedule highly critical for currently planned 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ign/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0% surface ID reached – Design shall remain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810240" y="1050480"/>
            <a:ext cx="508680" cy="5654160"/>
            <a:chOff x="3810240" y="1050480"/>
            <a:chExt cx="508680" cy="5654160"/>
          </a:xfrm>
        </p:grpSpPr>
        <p:sp>
          <p:nvSpPr>
            <p:cNvPr id="197" name=""/>
            <p:cNvSpPr/>
            <p:nvPr/>
          </p:nvSpPr>
          <p:spPr>
            <a:xfrm flipV="1">
              <a:off x="4074840" y="1050480"/>
              <a:ext cx="0" cy="547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10240" y="6480000"/>
              <a:ext cx="508680" cy="22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4581360"/>
            <a:ext cx="576000" cy="503280"/>
          </a:xfrm>
          <a:custGeom>
            <a:avLst/>
            <a:gdLst>
              <a:gd name="textAreaLeft" fmla="*/ 0 w 576000"/>
              <a:gd name="textAreaRight" fmla="*/ 576000 w 57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6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6436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67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5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1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92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4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33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1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1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72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10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0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9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77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6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67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8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4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33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1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1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7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8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2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10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0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9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7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96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839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01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2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25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2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426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53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72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77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8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1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20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2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37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8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6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8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96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28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40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12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64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8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81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25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8900000">
            <a:off x="-52560" y="1628280"/>
            <a:ext cx="88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8900000">
            <a:off x="36360" y="2247480"/>
            <a:ext cx="1151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ype Approval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&amp;TTE, GC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CETE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8900000">
            <a:off x="-360" y="4126680"/>
            <a:ext cx="872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8900000">
            <a:off x="9720" y="4852800"/>
            <a:ext cx="73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8900000">
            <a:off x="169560" y="5527440"/>
            <a:ext cx="78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8900000">
            <a:off x="13320" y="3331800"/>
            <a:ext cx="78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80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M1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1.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08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5600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4836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010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414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323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6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20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3124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79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1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4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9120" y="1557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584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1.0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18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386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20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1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3.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5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5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3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8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51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247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P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5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88840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51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9.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05360" y="2278080"/>
            <a:ext cx="2583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R&amp;TTE, GCF, F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Acoustic / SAR&amp;EMC&amp;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67280" y="2954160"/>
            <a:ext cx="57600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Golden 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67280" y="2278080"/>
            <a:ext cx="172872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ternal Pr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2666880"/>
            <a:ext cx="57600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ilver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76720" y="3351240"/>
            <a:ext cx="172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2-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6000" y="3338640"/>
            <a:ext cx="288720" cy="28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2000" y="3338640"/>
            <a:ext cx="122400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amp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9080" y="3127320"/>
            <a:ext cx="225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59280" y="3363840"/>
            <a:ext cx="115236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+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3357720"/>
            <a:ext cx="12970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1156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1+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254556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1156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7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780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3692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2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57128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3692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04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95360" y="421812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8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69488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0920" y="421812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54736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03400" y="422604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1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133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8000" y="4226040"/>
            <a:ext cx="876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2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5149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15240" y="4202280"/>
            <a:ext cx="1226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3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„cosmetic only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45092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43280" y="26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8294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98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+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26996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51400" y="512136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tart z-ID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841920" y="4932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512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25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9492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6728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25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0876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3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2985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4906800"/>
            <a:ext cx="1440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7236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7440" y="4906800"/>
            <a:ext cx="71928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S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550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6701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06920" y="6127920"/>
            <a:ext cx="11523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1st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max. 15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4356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43640" y="6127920"/>
            <a:ext cx="1025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3r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7708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27640" y="515772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5400" y="508464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Weekly SW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z-ID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45080" y="515772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526600" y="51721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72360" y="4746600"/>
            <a:ext cx="9874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1840" y="5589720"/>
            <a:ext cx="86508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est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06920" y="5589720"/>
            <a:ext cx="1440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s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46920" y="5589720"/>
            <a:ext cx="11541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elta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558972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3000" y="6195960"/>
            <a:ext cx="11858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2n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80168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15160" y="6195960"/>
            <a:ext cx="757440" cy="18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VF-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2280" y="1844640"/>
            <a:ext cx="1079640" cy="21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S4/M3 </a:t>
            </a:r>
            <a:r>
              <a:rPr b="0" i="1" lang="en-US" sz="1000" spc="-1" strike="noStrike">
                <a:solidFill>
                  <a:srgbClr val="cc3300"/>
                </a:solidFill>
                <a:latin typeface="Arial"/>
              </a:rPr>
              <a:t>30.0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92080" y="4405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1560" y="1447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3000" y="30114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104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03520" y="3313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0352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9040" y="44370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9248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2716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76640" y="3851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78400" y="4610160"/>
            <a:ext cx="225360" cy="34596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4-25T06:28:21Z</dcterms:modified>
  <cp:revision>751</cp:revision>
  <dc:subject/>
  <dc:title>PowerPoint Presentation</dc:title>
</cp:coreProperties>
</file>